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bomb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743-4B78-4D44-8ACC-4AF8C8BF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260-74E1-4EE0-B663-2CD0D85A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04E-950E-4BC7-A89A-FD3D5677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92C-AB96-459A-8DFD-3032EE8A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1F7-B925-47D4-A2E1-A75838A8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6A66-581A-40F5-A3A9-07B1FC4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26CF-FB3A-499C-89DF-0C649630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BAF3-6CE4-4D8B-9094-081C946A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3939-3446-4C34-8B85-080842F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B40-5043-47C5-9A47-3FD2E505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20B2-B75B-4CFF-8BDC-B760B1D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3ED-F2F4-46FB-A175-B21808F6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0DDD-9A73-4402-8AB8-671B651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E4DC-7AD1-4390-8E75-C95FF6D6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201-6FD9-4021-98AC-D3FCC29D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13C2-020E-4459-AF77-97965A2B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E35C-EEC9-42EE-A972-C5CC926F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8F4-2342-4916-A4AB-95547508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C68-4A3D-44B3-9E4D-CADC2E9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4E6-9F26-4398-8799-60D2FFB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C68-5FBD-4CB8-B7C0-EF89B6E8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5EA-23E3-4E62-BE9B-3515BCE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99F-E2F9-4085-8F2E-C8630383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338-607E-4F44-B665-3D1E3DA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E60-950C-44A8-A46F-4F1E9A72B64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1960"/>
            <a:ext cx="16903800" cy="10794600"/>
            <a:chOff x="-7759800" y="146196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196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EFB4-B762-4DA4-BF51-6F1A327D2B8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cc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FD9-1AD3-4DD7-AE47-0BA9397A978B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efefe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093080" y="407520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مهارات الأسا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6165720"/>
            <a:ext cx="1584360" cy="621000"/>
          </a:xfrm>
          <a:custGeom>
            <a:avLst/>
            <a:gdLst>
              <a:gd name="textAreaLeft" fmla="*/ 39960 w 1584360"/>
              <a:gd name="textAreaRight" fmla="*/ 1544400 w 158436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55089" h="21600">
                <a:moveTo>
                  <a:pt x="0" y="0"/>
                </a:moveTo>
                <a:lnTo>
                  <a:pt x="55089" y="0"/>
                </a:lnTo>
                <a:lnTo>
                  <a:pt x="55089" y="21600"/>
                </a:lnTo>
                <a:lnTo>
                  <a:pt x="0" y="21600"/>
                </a:lnTo>
                <a:close/>
              </a:path>
              <a:path fill="lightenLess" w="55089" h="21600">
                <a:moveTo>
                  <a:pt x="0" y="0"/>
                </a:moveTo>
                <a:lnTo>
                  <a:pt x="55089" y="0"/>
                </a:lnTo>
                <a:lnTo>
                  <a:pt x="53689" y="1400"/>
                </a:lnTo>
                <a:lnTo>
                  <a:pt x="1400" y="1400"/>
                </a:lnTo>
                <a:close/>
              </a:path>
              <a:path fill="darken" w="55089" h="21600">
                <a:moveTo>
                  <a:pt x="55089" y="0"/>
                </a:moveTo>
                <a:lnTo>
                  <a:pt x="55089" y="21600"/>
                </a:lnTo>
                <a:lnTo>
                  <a:pt x="53689" y="20200"/>
                </a:lnTo>
                <a:lnTo>
                  <a:pt x="53689" y="1400"/>
                </a:lnTo>
                <a:close/>
              </a:path>
              <a:path fill="darkenLess" w="55089" h="21600">
                <a:moveTo>
                  <a:pt x="55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89" y="20200"/>
                </a:lnTo>
                <a:close/>
              </a:path>
              <a:path fill="lighten" w="55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089" h="21600">
                <a:moveTo>
                  <a:pt x="20538" y="3794"/>
                </a:moveTo>
                <a:lnTo>
                  <a:pt x="34551" y="10800"/>
                </a:lnTo>
                <a:lnTo>
                  <a:pt x="2053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تخاذ القر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ل المشك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فكير الناق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11280" y="4148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ويل التركي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قوي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479-6910-42BD-9C28-9BC64589DDC4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1480" y="907920"/>
            <a:ext cx="75996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-2368800" y="3240000"/>
            <a:ext cx="4697280" cy="104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مهارات الأساس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                            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1480" y="6418440"/>
            <a:ext cx="79041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1413000"/>
            <a:ext cx="7904160" cy="500544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B35-5945-4419-B8B3-D2940E964111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ff"/>
            </a:gs>
            <a:gs pos="100000">
              <a:srgbClr val="ff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836640"/>
            <a:ext cx="741672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-2024640" y="3401280"/>
            <a:ext cx="4697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حويل التركيب التقوي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6418440"/>
            <a:ext cx="77212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78204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341360"/>
            <a:ext cx="7721280" cy="50418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DBC-32CC-4700-AEBB-4CCDF13997F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a13a"/>
            </a:gs>
            <a:gs pos="50000">
              <a:srgbClr val="ffffcc"/>
            </a:gs>
            <a:gs pos="100000">
              <a:srgbClr val="c6a1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907920"/>
            <a:ext cx="69850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2431440" y="3447360"/>
            <a:ext cx="54374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حل المشكلات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376280"/>
            <a:ext cx="7848720" cy="504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988-C253-4453-9466-44B24A44E6B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999ff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836640"/>
            <a:ext cx="806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-2025720" y="3473280"/>
            <a:ext cx="4697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فكير الناقد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6418440"/>
            <a:ext cx="80643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685332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341360"/>
            <a:ext cx="8064360" cy="504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غالط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ناقض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1413000"/>
            <a:ext cx="100800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708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ميز افتراض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ى غ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ساس مغالط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1413000"/>
            <a:ext cx="129708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زاء الحو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تيج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سبا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413000"/>
            <a:ext cx="122400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دعاء الحقيق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/ القي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 / لي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413000"/>
            <a:ext cx="115236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لس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وار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كم ع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وة الح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388-2E0A-444B-9099-E23D809C3C22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3640" y="907920"/>
            <a:ext cx="750744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-2097000" y="3473640"/>
            <a:ext cx="46972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تخاذالقرار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1413000"/>
            <a:ext cx="7723440" cy="49687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ديد الهدف            تحديد الهدف                   تحديد الهد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لتعرف على البدائل    التعرف على البدائل          اكتشاف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ليل البدائل            تحليل البدائل                  تحليل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رتيب البدائل           ترتيب البدائل     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قويم البدائل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A5E-B731-4063-91AB-5A525507889A}" type="slidenum">
              <a:t>7</a:t>
            </a:fld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1:58:30Z</dcterms:created>
  <dc:creator/>
  <dc:description>
</dc:description>
  <dc:language>en-US</dc:language>
  <cp:lastModifiedBy>abwaad</cp:lastModifiedBy>
  <dcterms:modified xsi:type="dcterms:W3CDTF">2002-12-25T08:11:02Z</dcterms:modified>
  <cp:revision>556</cp:revision>
  <dc:subject/>
  <dc:title>عرض مشروع المدرسة الرائدة</dc:title>
</cp:coreProperties>
</file>